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7C8-A4D0-4175-8A17-295D39FA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D44-8B2D-4B12-9620-DA4FC48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C95-FCAB-4DF2-AE48-0CBA637A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2B1-2D78-41D8-BA2A-DFAFF5AC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7EE-167D-45A7-BBF7-AF13A4E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572-DC8B-40D2-A0E7-9D62DCC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EE8-3218-4C51-A3B7-BE9A934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DCE-0D17-440F-AB5E-31E2BC4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8DC-A8B1-47E2-8B9E-3398506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2AD-CF72-4547-A2D5-F421799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B11-D0AC-4687-849A-DF22609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3972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93640" y="16765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8580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3972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93640" y="40248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5A5-BA84-46D3-9368-08317E9B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0248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5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48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6440" y="-3240"/>
            <a:ext cx="8778960" cy="3988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第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2</a:t>
            </a:r>
            <a:r>
              <a:rPr b="1" lang="zh-CN" sz="2000" spc="-1" strike="noStrike">
                <a:solidFill>
                  <a:srgbClr val="339933"/>
                </a:solidFill>
                <a:latin typeface="隶书"/>
                <a:ea typeface="隶书"/>
              </a:rPr>
              <a:t>章  微型计算机的系统结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2286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477120" y="228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3399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564D-C9DE-4D4C-A0FC-F3BBEB9882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19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1.xml"/><Relationship Id="rId2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隶书"/>
              </a:rPr>
              <a:t>章  微型计算机的系统结构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" action="ppaction://hlinksldjump"/>
              </a:rPr>
              <a:t>2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2" action="ppaction://hlinksldjump"/>
              </a:rPr>
              <a:t>PC/XT、PC/AT 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3" action="ppaction://hlinksldjump"/>
              </a:rPr>
              <a:t>与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4" action="ppaction://hlinksldjump"/>
              </a:rPr>
              <a:t>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5" action="ppaction://hlinksldjump"/>
              </a:rPr>
              <a:t>总线技术的微型计算机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6" action="ppaction://hlinksldjump"/>
              </a:rPr>
              <a:t>2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7" action="ppaction://hlinksldjump"/>
              </a:rPr>
              <a:t>PCI、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8" action="ppaction://hlinksldjump"/>
              </a:rPr>
              <a:t>局部总线的微型计算机系统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9" action="ppaction://hlinksldjump"/>
              </a:rPr>
              <a:t>2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0" action="ppaction://hlinksldjump"/>
              </a:rPr>
              <a:t>Pentium 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1" action="ppaction://hlinksldjump"/>
              </a:rPr>
              <a:t>微型计算机系统结构简介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5  PC/XT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信号引脚的定义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70000" y="2057400"/>
            <a:ext cx="91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4  XT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IS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EISA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总线扩展槽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76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25780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914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.1  X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1447920"/>
          <a:ext cx="6095880" cy="47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60958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5562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2  X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1828800"/>
          <a:ext cx="6172200" cy="30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1722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936840" y="1447920"/>
            <a:ext cx="911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3  X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总线引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面信号定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762120"/>
          <a:ext cx="5289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5289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2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局部总线的微型计算机系统结构 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" action="ppaction://hlinksldjump"/>
              </a:rPr>
              <a:t>2.2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3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4" action="ppaction://hlinksldjump"/>
              </a:rPr>
              <a:t>2.2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5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6" action="ppaction://hlinksldjump"/>
              </a:rPr>
              <a:t>总线的特点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7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8" action="ppaction://hlinksldjump"/>
              </a:rPr>
              <a:t>2.2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9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0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1" action="ppaction://hlinksldjump"/>
              </a:rPr>
              <a:t>2.2.4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2" action="ppaction://hlinksldjump"/>
              </a:rPr>
              <a:t>PCI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3" action="ppaction://hlinksldjump"/>
              </a:rPr>
              <a:t>、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4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5" action="ppaction://hlinksldjump"/>
              </a:rPr>
              <a:t>总线接口槽引脚信号定义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6" action="ppaction://hlinksldjump"/>
              </a:rPr>
              <a:t>2.2.5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7" action="ppaction://hlinksldjump"/>
              </a:rPr>
              <a:t>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8" action="ppaction://hlinksldjump"/>
              </a:rPr>
              <a:t>总线的特点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19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35880" indent="-335880" algn="just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0" action="ppaction://hlinksldjump"/>
              </a:rPr>
              <a:t>2.2.6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1" action="ppaction://hlinksldjump"/>
              </a:rPr>
              <a:t>PCI/AGP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2" action="ppaction://hlinksldjump"/>
              </a:rPr>
              <a:t>主板简介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 Unicode MS"/>
                <a:ea typeface="Times New Roman"/>
                <a:hlinkClick r:id="rId23" action="ppaction://hlinksldjump"/>
              </a:rPr>
              <a:t>	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>
            <a:hlinkClick r:id="rId24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1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微机系统结构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5120" y="1981080"/>
            <a:ext cx="790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5  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典型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I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局部总线的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I/IS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系统结构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90880" y="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867640" cy="51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2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33360" y="236232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高性能         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线性突发传输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减少存取延迟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采用总线主控和同步操作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不受处理器限制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00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的特点主要表现在以下几个 方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5640" y="167652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适用于各种机型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兼容性强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预留扩展空间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成本低、效率高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向前的扩展性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3  AGP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4840" y="1600200"/>
            <a:ext cx="729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6  AGP/PCI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微机系统结构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240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1543" r="0" b="5215"/>
          <a:stretch/>
        </p:blipFill>
        <p:spPr>
          <a:xfrm>
            <a:off x="685800" y="1447920"/>
            <a:ext cx="594360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4  PCI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接口槽引脚信号定义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43760" y="1371600"/>
            <a:ext cx="1033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4  PC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总线插槽引脚信号引线定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52480" y="1676520"/>
          <a:ext cx="495324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49532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本章学习目标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/X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结构的计算机系统及其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/AT 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结构的计算机系统及其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的计算机系统结构和特点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总线的计算机系统的结构特点和基本参数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速图形接口总线的微机系统结构特点和基本参数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295280"/>
          <a:ext cx="815364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15364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5  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67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双重驱动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带边信号传送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采用内存请求流水线技术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减少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的传输压力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2.6  PCI/AGP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主板简介</a:t>
            </a: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常见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外形图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插座、内存、控制逻辑芯片组、软驱及硬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插座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/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扩展插槽、键盘鼠标接口插座、并行及串行接口插座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S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用串行接口插座、声音输出输入插座及电源电路等组成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该类主板支持高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外频并且采用多外频免跳频率微调技术，使外频可调，方便用户选择不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71952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27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5424480" cy="4454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5800" y="914400"/>
            <a:ext cx="546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7  PCI/AGP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总线结构的主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2.3  Pentium 4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微型计算机系统结构简介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entium 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系统总线，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entium 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处理器的微型计算机系统结构示意图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8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组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0MHz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系统总线，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 4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通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CH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芯片（南桥芯片）的配合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ltra   DMA/33/66/1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D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输规范。支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线，内存支持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G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存储器容量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板的外形图。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	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609588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2.8  Pentium 4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微处理器微机系统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160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51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431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联想SX2E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162760" cy="401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5486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9  P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板的外形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8954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本章到此结束，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Times New Roman"/>
              </a:rPr>
              <a:t>谢谢您的光临！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endshow"/>
          </p:cNvPr>
          <p:cNvSpPr/>
          <p:nvPr/>
        </p:nvSpPr>
        <p:spPr>
          <a:xfrm>
            <a:off x="6069600" y="63403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  PC/XT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PC/AT 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技术的微型计算机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" action="ppaction://hlinksldjump"/>
              </a:rPr>
              <a:t>2.1.1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2" action="ppaction://hlinksldjump"/>
              </a:rPr>
              <a:t>PC/XT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3" action="ppaction://hlinksldjump"/>
              </a:rPr>
              <a:t>总线技术的微型计算机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4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5" action="ppaction://hlinksldjump"/>
              </a:rPr>
              <a:t>PC/AT 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6" action="ppaction://hlinksldjump"/>
              </a:rPr>
              <a:t>总线的微机系统结构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7" action="ppaction://hlinksldjump"/>
              </a:rPr>
              <a:t>2.1.3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8" action="ppaction://hlinksldjump"/>
              </a:rPr>
              <a:t>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9" action="ppaction://hlinksldjump"/>
              </a:rPr>
              <a:t>总线的微机系统结构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0" action="ppaction://hlinksldjump"/>
              </a:rPr>
              <a:t>2.1.4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1" action="ppaction://hlinksldjump"/>
              </a:rPr>
              <a:t>PC/XT、PC/AT ISA、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2" action="ppaction://hlinksldjump"/>
              </a:rPr>
              <a:t>总线的特点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3" action="ppaction://hlinksldjump"/>
              </a:rPr>
              <a:t>2.1.5  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4" action="ppaction://hlinksldjump"/>
              </a:rPr>
              <a:t>PC/XT、ISA、EISA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宋体"/>
                <a:hlinkClick r:id="rId15" action="ppaction://hlinksldjump"/>
              </a:rPr>
              <a:t>总线信号引脚的定义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">
            <a:hlinkClick r:id="rId16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章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1.1  PC/X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技术的微型计算机结构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6019560"/>
            <a:ext cx="61722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1  PC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PC/XT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的微机系统结构示意图</a:t>
            </a:r>
            <a:endParaRPr b="1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164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685800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2  PC/AT 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1219320"/>
            <a:ext cx="42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2.2  80486  PC AT/ISA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</a:rPr>
              <a:t>总线系统结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0033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200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01992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2.1.3  EISA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总线的微机系统结构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2.3  EISA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</a:rPr>
              <a:t>总线微机系统结构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824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26716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2.1.4  PC/XT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PC/AT ISA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总线的特点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520" y="2057040"/>
            <a:ext cx="4038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PC/XT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0481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XT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88CPU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容，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数据总线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地址总线、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体系结构的微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971800" y="1219320"/>
            <a:ext cx="35812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ISA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14600"/>
            <a:ext cx="7239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2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容，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数据线，支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存取；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地址线，可寻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M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存储器空间，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28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及以上的微处理器组成的微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8120" y="10663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EISA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总线</a:t>
            </a:r>
            <a:endParaRPr b="1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057400"/>
            <a:ext cx="7620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微处理器兼容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E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在信号定义与物理电气连接上完全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S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线兼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具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线，支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的数据存取，支持数据突发式传输。主要应用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位微处理器组成的微型计算机系统中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6324480"/>
            <a:ext cx="157968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Times New Roman"/>
              </a:rPr>
              <a:t>返回本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06:01:07Z</dcterms:created>
  <dc:creator>liwu</dc:creator>
  <dc:description/>
  <dc:language>en-US</dc:language>
  <cp:lastModifiedBy>wuxian</cp:lastModifiedBy>
  <dcterms:modified xsi:type="dcterms:W3CDTF">2002-01-23T04:36:35Z</dcterms:modified>
  <cp:revision>36</cp:revision>
  <dc:subject/>
  <dc:title>PowerPoint 演示文稿</dc:title>
</cp:coreProperties>
</file>